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  <p:custShowLst>
    <p:custShow name="自定义放映 1" id="0">
      <p:sldLst>
        <p:sld r:id="rId6"/>
        <p:sld r:id="rId7"/>
        <p:sld r:id="rId8"/>
        <p:sld r:id="rId7"/>
        <p:sld r:id="rId9"/>
        <p:sld r:id="rId7"/>
        <p:sld r:id="rId10"/>
        <p:sld r:id="rId11"/>
        <p:sld r:id="rId7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 Black"/>
              </a:rPr>
              <a:t>Click to move the slide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44A-EA7A-456C-8C27-59C7F52924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BAF-6BC9-48A1-BE8C-F7204BCF950B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DE53-F980-48EC-A9EB-74F51BA8F8FF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9519-88A3-42BB-BF7C-669488BF31B4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F67-263D-485A-AFA6-DD07B60DA49A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020-AC1B-42B7-BBFC-E1AFCCAA7806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978-6686-46B1-ACB6-D7BA9F4CBAD5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F3B0-2F70-402C-BD2B-F114161CD5FC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7ACA-3D18-4FB9-9E45-3BA4DBBC16FC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F58-1DB8-4221-85F1-5F1C5D7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460-2419-490F-A151-CE2C607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59E-165F-426C-8229-E73C21CF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904-F7FD-4A16-BF2D-29DF7F4C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8D83-3C52-462D-A481-11D32E11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636-D692-4265-ADE7-1364C6D6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9CCD-0351-426C-9B3E-8A96EE43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4327-A4A8-433B-8850-C368E4EE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3A95-08D4-4AF1-AC5C-19F61B2B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F71E-8BE7-4433-B541-3FE7E271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A617-5028-4D64-AC76-B33340A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CD1-05D4-47EB-8918-28904F9D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7FE-4E41-4888-AFB7-E8A5500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6646-2523-42BC-BF0C-D7ADBE9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56F5-FD1F-4DDE-A259-E2D35617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A40D-F4BF-4E95-81E1-1DA9FCB1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5A7-33B9-48FB-A8F1-3E51EFEA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C8A5-8EFD-4190-A579-760A2299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599A4-B12E-4BFB-BEA7-DFCC8D01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133B-763A-40DD-AA2F-6414DA9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7144-9C4A-4FFF-A1CF-C90B021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03DE-AFCB-425F-B95A-4A3F7AC2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060-0742-4486-84A0-2BEAA15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92B1-ECCC-40A3-A38A-943939DE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E2FB-0E07-428F-959B-C2EB0ED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3103-7149-47CB-BD09-306CA6EC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E9E4-10B6-42DE-9976-2556739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8535-564A-43B1-B244-43B1EDB9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C836-7142-4B87-850C-3EB741F2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272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400" y="10270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1904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272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400" y="373968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9CAE-CD65-413D-BC5F-56F865E3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8A2-101F-4A82-B887-DCA23368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AD0-5F89-4BA8-946B-2006930C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4B6-AA6A-416F-A264-26CECC43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839-8C20-4798-A5BB-D737482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7396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4089-7E33-4CB0-A7EE-2295F94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02708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73968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59-1F67-48B9-B33C-01ECB24E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2704-39D8-4938-B178-BA3168C7683C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7dc5c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7dc5c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03E8-2AE9-4854-AC8B-C3558CF3BC7E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b70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c7dc5c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B45-74BA-4284-B23E-F6FB9DBF4F73}" type="slidenum">
              <a:rPr b="0" lang="zh-CN" sz="1200" spc="-1" strike="noStrike">
                <a:solidFill>
                  <a:srgbClr val="9d9d9d"/>
                </a:solidFill>
                <a:latin typeface="Times New Roman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副标题 6" descr=""/>
          <p:cNvPicPr/>
          <p:nvPr/>
        </p:nvPicPr>
        <p:blipFill>
          <a:blip r:embed="rId1"/>
          <a:stretch/>
        </p:blipFill>
        <p:spPr>
          <a:xfrm>
            <a:off x="1474920" y="4114800"/>
            <a:ext cx="3603600" cy="1274760"/>
          </a:xfrm>
          <a:prstGeom prst="rect">
            <a:avLst/>
          </a:prstGeom>
          <a:ln w="0">
            <a:noFill/>
          </a:ln>
        </p:spPr>
      </p:pic>
      <p:pic>
        <p:nvPicPr>
          <p:cNvPr id="132" name="标题 5" descr=""/>
          <p:cNvPicPr/>
          <p:nvPr/>
        </p:nvPicPr>
        <p:blipFill>
          <a:blip r:embed="rId2"/>
          <a:stretch/>
        </p:blipFill>
        <p:spPr>
          <a:xfrm>
            <a:off x="6480" y="1743120"/>
            <a:ext cx="5675040" cy="1085760"/>
          </a:xfrm>
          <a:prstGeom prst="rect">
            <a:avLst/>
          </a:prstGeom>
          <a:ln w="0">
            <a:noFill/>
          </a:ln>
        </p:spPr>
      </p:pic>
      <p:sp>
        <p:nvSpPr>
          <p:cNvPr id="133" name="日期占位符 1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7393-1020-4964-9E27-5B54DE1ECF0E}" type="datetime">
              <a:rPr b="0" lang="zh-CN" sz="1200" spc="-1" strike="noStrike">
                <a:solidFill>
                  <a:srgbClr val="9d9d9d"/>
                </a:solidFill>
                <a:latin typeface="Arial"/>
                <a:ea typeface="华文细黑"/>
              </a:rPr>
              <a:t>26/7/28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TextBox 2" descr=""/>
          <p:cNvPicPr/>
          <p:nvPr/>
        </p:nvPicPr>
        <p:blipFill>
          <a:blip r:embed="rId3"/>
          <a:stretch/>
        </p:blipFill>
        <p:spPr>
          <a:xfrm>
            <a:off x="5510160" y="5443560"/>
            <a:ext cx="2878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H_Others_1"/>
          <p:cNvSpPr/>
          <p:nvPr/>
        </p:nvSpPr>
        <p:spPr>
          <a:xfrm>
            <a:off x="1114560" y="2057400"/>
            <a:ext cx="1434960" cy="27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f5f5f"/>
                </a:solidFill>
                <a:latin typeface="微软雅黑"/>
                <a:ea typeface="微软雅黑"/>
              </a:rPr>
              <a:t>目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f5f5f"/>
                </a:solidFill>
                <a:latin typeface="微软雅黑"/>
                <a:ea typeface="微软雅黑"/>
              </a:rPr>
              <a:t>录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MH_Others_2"/>
          <p:cNvSpPr/>
          <p:nvPr/>
        </p:nvSpPr>
        <p:spPr>
          <a:xfrm rot="5400000">
            <a:off x="-702720" y="310896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MH_Number_1"/>
          <p:cNvSpPr/>
          <p:nvPr/>
        </p:nvSpPr>
        <p:spPr>
          <a:xfrm>
            <a:off x="4071960" y="2009880"/>
            <a:ext cx="360360" cy="358560"/>
          </a:xfrm>
          <a:prstGeom prst="ellipse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MH_Entry_1"/>
          <p:cNvSpPr/>
          <p:nvPr/>
        </p:nvSpPr>
        <p:spPr>
          <a:xfrm>
            <a:off x="4068720" y="1919160"/>
            <a:ext cx="3830760" cy="493920"/>
          </a:xfrm>
          <a:prstGeom prst="pie">
            <a:avLst/>
          </a:prstGeom>
          <a:noFill/>
          <a:ln cap="sq" w="3240">
            <a:solidFill>
              <a:srgbClr val="a1f1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2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华文细黑"/>
                <a:ea typeface="华文细黑"/>
              </a:rPr>
              <a:t>节能执法流程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MH_Number_2"/>
          <p:cNvSpPr/>
          <p:nvPr/>
        </p:nvSpPr>
        <p:spPr>
          <a:xfrm>
            <a:off x="4071960" y="2833560"/>
            <a:ext cx="360360" cy="360360"/>
          </a:xfrm>
          <a:prstGeom prst="ellipse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2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MH_Entry_2"/>
          <p:cNvSpPr/>
          <p:nvPr/>
        </p:nvSpPr>
        <p:spPr>
          <a:xfrm>
            <a:off x="4068720" y="2744640"/>
            <a:ext cx="3830760" cy="492120"/>
          </a:xfrm>
          <a:prstGeom prst="pie">
            <a:avLst/>
          </a:prstGeom>
          <a:noFill/>
          <a:ln cap="sq" w="3240">
            <a:solidFill>
              <a:srgbClr val="a1f1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2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华文细黑"/>
                <a:ea typeface="华文细黑"/>
              </a:rPr>
              <a:t>节能执法文书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MH_Number_3"/>
          <p:cNvSpPr/>
          <p:nvPr/>
        </p:nvSpPr>
        <p:spPr>
          <a:xfrm>
            <a:off x="4071960" y="3657600"/>
            <a:ext cx="360360" cy="360360"/>
          </a:xfrm>
          <a:prstGeom prst="ellipse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3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MH_Entry_3"/>
          <p:cNvSpPr/>
          <p:nvPr/>
        </p:nvSpPr>
        <p:spPr>
          <a:xfrm>
            <a:off x="4068720" y="3568680"/>
            <a:ext cx="3830760" cy="492120"/>
          </a:xfrm>
          <a:prstGeom prst="pie">
            <a:avLst/>
          </a:prstGeom>
          <a:noFill/>
          <a:ln cap="sq" w="3240">
            <a:solidFill>
              <a:srgbClr val="a1f1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2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华文细黑"/>
                <a:ea typeface="华文细黑"/>
              </a:rPr>
              <a:t>节能执法案卷立卷归档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MH_Number_4"/>
          <p:cNvSpPr/>
          <p:nvPr/>
        </p:nvSpPr>
        <p:spPr>
          <a:xfrm>
            <a:off x="4071960" y="4483080"/>
            <a:ext cx="360360" cy="358920"/>
          </a:xfrm>
          <a:prstGeom prst="ellipse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4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MH_Entry_4"/>
          <p:cNvSpPr/>
          <p:nvPr/>
        </p:nvSpPr>
        <p:spPr>
          <a:xfrm>
            <a:off x="4068720" y="4394160"/>
            <a:ext cx="3830760" cy="492120"/>
          </a:xfrm>
          <a:prstGeom prst="pie">
            <a:avLst/>
          </a:prstGeom>
          <a:noFill/>
          <a:ln cap="sq" w="3240">
            <a:solidFill>
              <a:srgbClr val="a1f15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43200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华文细黑"/>
                <a:ea typeface="华文细黑"/>
              </a:rPr>
              <a:t>节能执法案例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b70f"/>
                </a:solidFill>
                <a:latin typeface="Arial Black"/>
              </a:rPr>
              <a:t>一、节能执法流程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graphicFrame>
        <p:nvGraphicFramePr>
          <p:cNvPr id="146" name="内容占位符 2"/>
          <p:cNvGraphicFramePr/>
          <p:nvPr/>
        </p:nvGraphicFramePr>
        <p:xfrm>
          <a:off x="890640" y="1027080"/>
          <a:ext cx="734832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内容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1027080"/>
                    <a:ext cx="734832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b70f"/>
                </a:solidFill>
                <a:latin typeface="Arial Black"/>
              </a:rPr>
              <a:t>二、节能执法文书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按照使用用途划分：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一）外部文书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：行政处罚机关对外使用，对处罚机关和行政相对人均具有法律效力的文书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监察通知书、行政处罚事先告知书、行政处罚决定书、听证事先告知书、听证通知书、责令改正通知书等。（呈报单、送达回证）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二）内部文书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：行政处罚机关内部使用，记录内部工作流程，规范执法工作运转程序的文书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立案审批表、案件调查终结报告、案件处理审核表、案件讨论记录、监察结果审核表、结案审批表等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b70f"/>
                </a:solidFill>
                <a:latin typeface="Arial Black"/>
              </a:rPr>
              <a:t>三、节能执法案卷立卷归档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立卷归档应当符合档案管理和档案法的有关规定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一）一案一卷，一卷一号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涉及国家机密、商业秘密、个人隐私的案件，可以实行一案多卷，即正卷和副卷。案卷使用档案部门统一印制的封皮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二）文书填制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卷内文书使用黑色或蓝黑色钢笔、签字笔或者毛笔书写，字迹清晰，页面整洁。涂改处应当进行技术处理，空白处应当做划线标注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三）证据保存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不能随文书装订立卷的证据，应放入证据袋中，随卷归档，并在证据袋上注明证据的名称、数量、拍摄时间、地点等内容；不能随文书立卷装订的录音、录像或实物证据，需在备考表中注明录制的内容、数量、时间、地点、责任人及其存放地点等内容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四）文书装订顺序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卷内文书可选择下列两种顺序排列：第一种顺序是行政处罚决定书和送达回证在前，其余文书按照办案时间顺序排列；第二种顺序是行政处罚决定书和送达回证在前，其余文书按照法律文书、证据文书、其他文书设置分类按序排列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五）卷内文书页码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采用阿拉伯数字逐页编写页码，正页在右上角、反页在左上角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六）破损文书应修补或者复制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文书过小的应衬纸粘贴，文书过大的应折叠整齐</a:t>
            </a: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(A4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纸</a:t>
            </a:r>
            <a:r>
              <a:rPr b="0" lang="en-US" sz="2000" spc="-1" strike="noStrike">
                <a:solidFill>
                  <a:srgbClr val="63b70f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3b70f"/>
                </a:solidFill>
                <a:latin typeface="Arial"/>
              </a:rPr>
              <a:t>（七）案卷封皮、卷内目录和备考表填写规范。</a:t>
            </a: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案卷装订无金属物。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3b70f"/>
                </a:solidFill>
                <a:latin typeface="Arial Black"/>
              </a:rPr>
              <a:t>四、节能执法案例</a:t>
            </a:r>
            <a:endParaRPr b="1" lang="en-US" sz="3200" spc="-1" strike="noStrike">
              <a:solidFill>
                <a:srgbClr val="63b70f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9040" y="102708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3b70f"/>
                </a:solidFill>
                <a:latin typeface="Arial"/>
              </a:rPr>
              <a:t>节能措施落实情况专项监察案件</a:t>
            </a: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3b7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"/>
          <p:cNvSpPr/>
          <p:nvPr/>
        </p:nvSpPr>
        <p:spPr>
          <a:xfrm>
            <a:off x="2939400" y="2530440"/>
            <a:ext cx="19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End</a:t>
            </a:r>
            <a:endParaRPr b="0" lang="en-US" sz="8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5080680" y="2025720"/>
            <a:ext cx="164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Thank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you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文本框 12"/>
          <p:cNvSpPr/>
          <p:nvPr/>
        </p:nvSpPr>
        <p:spPr>
          <a:xfrm>
            <a:off x="4098960" y="4840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0" y="2610000"/>
            <a:ext cx="9144000" cy="1143000"/>
          </a:xfrm>
          <a:prstGeom prst="rect">
            <a:avLst/>
          </a:prstGeom>
          <a:solidFill>
            <a:srgbClr val="63b7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3091680" y="2682720"/>
            <a:ext cx="199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End</a:t>
            </a:r>
            <a:endParaRPr b="0" lang="en-US" sz="8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椭圆形标注 3"/>
          <p:cNvSpPr/>
          <p:nvPr/>
        </p:nvSpPr>
        <p:spPr>
          <a:xfrm rot="436800">
            <a:off x="5173200" y="1596960"/>
            <a:ext cx="1757520" cy="1604880"/>
          </a:xfrm>
          <a:prstGeom prst="wedgeEllipseCallout">
            <a:avLst>
              <a:gd name="adj1" fmla="val -40199"/>
              <a:gd name="adj2" fmla="val 53990"/>
            </a:avLst>
          </a:prstGeom>
          <a:solidFill>
            <a:srgbClr val="81942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5232960" y="2178000"/>
            <a:ext cx="164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Thank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dern No. 20"/>
                <a:ea typeface="方正中倩_GBK"/>
              </a:rPr>
              <a:t>you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4T08:14:02Z</dcterms:created>
  <dc:creator>Cheng</dc:creator>
  <dc:description/>
  <dc:language>en-US</dc:language>
  <cp:lastModifiedBy>Cheng</cp:lastModifiedBy>
  <dcterms:modified xsi:type="dcterms:W3CDTF">2015-08-10T08:48:36Z</dcterms:modified>
  <cp:revision>64</cp:revision>
  <dc:subject/>
  <dc:title>节能执法介绍</dc:title>
</cp:coreProperties>
</file>